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49962"/>
        <c:axId val="32938332"/>
      </c:barChart>
      <c:catAx>
        <c:axId val="89849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38332"/>
        <c:crosses val="autoZero"/>
        <c:auto val="1"/>
        <c:lblAlgn val="ctr"/>
        <c:lblOffset val="100"/>
        <c:noMultiLvlLbl val="0"/>
      </c:catAx>
      <c:valAx>
        <c:axId val="32938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9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87F-DE2D-44A4-B781-35DB8D45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2B5-A917-43F1-8723-51D5E4E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FE9-4BD4-405F-9EC8-FC19352C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289-5552-4073-ADF2-374925B0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75E-02D9-4E95-AC56-42F5565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88A-D4F9-4330-A3A1-2DFE58F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A02-84D8-4C8C-AA87-EFF9739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723-8B9F-4B6A-9B05-34FC2E8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A28-151E-43DD-94A7-BE9A3588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DDB-2AD4-41D4-9A86-95B709DE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8BE-7DC2-4739-97BD-1CD1B9C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A6A-40BD-4F7A-80E7-77DBC3F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EC28D-60B3-4ABC-A7EA-3F334C6BE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