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83335"/>
        <c:axId val="1830950"/>
      </c:barChart>
      <c:catAx>
        <c:axId val="24083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0950"/>
        <c:crosses val="autoZero"/>
        <c:auto val="1"/>
        <c:lblAlgn val="ctr"/>
        <c:lblOffset val="100"/>
        <c:noMultiLvlLbl val="0"/>
      </c:catAx>
      <c:valAx>
        <c:axId val="1830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83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C01-6F5C-4184-9965-1633963B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801-6C23-4A37-9FA7-C120911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7A0-E5C3-4CEF-B66E-202129C7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CEB-846F-4A6F-9194-A29DE23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6A5-C381-4296-A57C-E10F9CB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FEE-6514-4D83-9859-BB5B5DD1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379-A98B-46F9-BDFE-BACA479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B7B-7483-4A53-97F8-D14E555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033-C40C-4D13-9E26-7EE9E5E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99-170E-4810-AFEA-723D9E1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901-8548-44CC-A94A-66CDE56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9E4-9F89-43CA-A242-8B99C12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4B0F-24CE-457E-A5C5-0A20D368A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