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057947"/>
        <c:axId val="20720515"/>
      </c:barChart>
      <c:catAx>
        <c:axId val="160579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20515"/>
        <c:crosses val="autoZero"/>
        <c:auto val="1"/>
        <c:lblAlgn val="ctr"/>
        <c:lblOffset val="100"/>
        <c:noMultiLvlLbl val="0"/>
      </c:catAx>
      <c:valAx>
        <c:axId val="207205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579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E26-2D84-43E9-A61F-084D4D7C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5C29-DBEB-40AE-85FD-B8ABF2C4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2F3-44D5-42CA-8DDA-400867DC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059-2D5E-4C58-BC40-A0824450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D99C-AAC8-41B5-8FC9-5F9EA00D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2B2-F627-47E3-9706-F5FC2833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BEF-CADF-4B48-8A28-04921740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1AC6-C657-47CA-ACC3-2070706B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E6AB-CA34-41F3-A7BE-00497294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8206-B545-4860-848D-E7757674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3EBD-DF77-46F2-B9D5-34B45C44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340-BC12-4A0E-A566-D9323054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160E9-333E-4FD4-A94D-60813FFD6C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