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024708"/>
        <c:axId val="49833879"/>
      </c:barChart>
      <c:catAx>
        <c:axId val="790247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33879"/>
        <c:crosses val="autoZero"/>
        <c:auto val="1"/>
        <c:lblAlgn val="ctr"/>
        <c:lblOffset val="100"/>
        <c:noMultiLvlLbl val="0"/>
      </c:catAx>
      <c:valAx>
        <c:axId val="498338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247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147-6C63-4CDC-A2B7-AA2F0201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7C07-4D5F-47E7-9B9C-8D0852C8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E529-F83A-45DF-8BAA-E835AEA7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88DA-1C42-4982-A1A1-056EAA05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3F0-626A-4201-92AD-D6F51192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7A0-BEAD-4DF9-9536-D810265E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4D83-43C2-4697-B8CE-747B9967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C1A-C5CC-4270-AF3F-096EF509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0947-0A53-410A-9BA2-78C8C98F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427F-8661-40AE-A427-C35BA6B5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075-0014-4065-A8D9-5408D1E5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4BDE-9AAB-4993-8F8B-D02BAB31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47687-8F65-4F77-BD6B-51908690C9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