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253734"/>
        <c:axId val="11171919"/>
      </c:barChart>
      <c:catAx>
        <c:axId val="882537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71919"/>
        <c:crosses val="autoZero"/>
        <c:auto val="1"/>
        <c:lblAlgn val="ctr"/>
        <c:lblOffset val="100"/>
        <c:noMultiLvlLbl val="0"/>
      </c:catAx>
      <c:valAx>
        <c:axId val="111719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537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BAD4-3488-4BEC-ADB3-0BDD3A8CD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45B2-F4C9-4BCE-B1F8-EE64D4FD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3E9C-0CC8-4FDF-8247-2A453116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501A-5BBD-4770-9656-C78B263E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D8CC-B943-4279-91FF-41F1D333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812F-99E0-4CB3-A122-3F2B0440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4245-DB09-4E80-B27E-A8C49C77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1DFC-C6A5-420E-88AD-C2C34E94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AA43-FB90-4EF2-94C0-FEE8AABB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BD7A-A884-4166-80F2-57CDEF75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3F17-A980-4D0F-A415-AFF9B298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5C79-1FFF-41A6-AE3A-213A8E00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B036C-428B-4C5E-98C7-1180EC44E5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