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580509"/>
        <c:axId val="21153649"/>
      </c:barChart>
      <c:catAx>
        <c:axId val="295805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53649"/>
        <c:crosses val="autoZero"/>
        <c:auto val="1"/>
        <c:lblAlgn val="ctr"/>
        <c:lblOffset val="100"/>
        <c:noMultiLvlLbl val="0"/>
      </c:catAx>
      <c:valAx>
        <c:axId val="211536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805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4BC0-7726-4945-ADFF-C345F1D8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1838-E5D8-444D-A63B-0BC6EE16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849E-BE0F-4A89-99AD-4E899EC1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3124-E715-47F0-8F18-A26F54B8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71D4-A7D1-4A3C-AB18-103212EC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96C1-0FEB-478F-B6E4-FF70649E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375F-6875-4816-928D-89436C93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28E8-6180-42BF-936D-A49A4C77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4F2E-9877-4AE1-9199-360AE3FE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07CC-38D5-4024-9BC5-764A6015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F66D-64E9-4B65-A987-04ADDBA0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B48A-92BD-4BC9-AD2A-9AFC3942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4770A-7ACE-4DB4-A6FB-6A9CFD2B3A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